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9EE6-1E75-485D-B0AC-A4C99C869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6CD4-9385-4204-83D3-726C1BFC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49C3-6B40-4839-BB56-337165884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2F1C-BC53-45FD-BB37-62D3937EB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2FB9-980A-474F-B2A5-BC570C77E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77A9-FB1B-4AD3-9193-36F49800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9FB53-7194-464E-9D9A-C7A9DEC2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30A2C-379F-454A-9DE9-5D4383DF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7E09-C746-4C01-9AA3-2ABCA16F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C693-742C-439F-9C37-813D1F0D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ADA2-1D75-45F2-A4C8-9865825E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8DA6-446E-4714-B878-6C807CFC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8DC9B-F1C5-4CCE-ABF6-B8AACA1F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6904-0F12-4A41-B9D8-71D9AB7C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C9EA-268F-43D0-93EC-CEC18FA4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D624-BFAB-4EA6-990D-1D74286AA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CD09-2379-473F-A031-CC80D0F4F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1665-B03F-4B32-9391-6B93224D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6D4E-8E17-469B-840C-7A3373BE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DB90-CE88-4F1A-8A26-139EAA22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3EC0-788A-4AB2-88B6-DA0D58D0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35A8-7E3A-4FFD-951F-2C01269E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5D4C-57C0-444F-B749-10E33E2A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7E65-F849-41EE-924F-DA08874B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FECC-1662-42BB-AF06-06F7327991F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E5D3-F8CD-4CE8-ACE1-C9E047DFFCF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 rot="19542000"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Impact"/>
              </a:rPr>
              <a:t>Evangelizando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3" name="Picture 5" descr="Copy of Chile Union ChM Advisory 133"/>
          <p:cNvPicPr/>
          <p:nvPr/>
        </p:nvPicPr>
        <p:blipFill>
          <a:blip r:embed="rId1"/>
          <a:stretch/>
        </p:blipFill>
        <p:spPr>
          <a:xfrm>
            <a:off x="4716360" y="0"/>
            <a:ext cx="1752840" cy="1170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hildren of the world"/>
          <p:cNvPicPr/>
          <p:nvPr/>
        </p:nvPicPr>
        <p:blipFill>
          <a:blip r:embed="rId2"/>
          <a:stretch/>
        </p:blipFill>
        <p:spPr>
          <a:xfrm rot="19542000">
            <a:off x="2000160" y="3259080"/>
            <a:ext cx="5867640" cy="696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FerreyraMe\Documents\diseños PP\LOGOS_ADVENTISTAS\LOGOS_DEPTO\MINISTÉRIO_CRIANÇA\logo_Trab_esp.jpg"/>
          <p:cNvPicPr/>
          <p:nvPr/>
        </p:nvPicPr>
        <p:blipFill>
          <a:blip r:embed="rId3"/>
          <a:stretch/>
        </p:blipFill>
        <p:spPr>
          <a:xfrm>
            <a:off x="34920" y="-27000"/>
            <a:ext cx="4681440" cy="1197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7872840" y="6397560"/>
            <a:ext cx="1221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. Ferreyr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inisterio Personal - D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P-EI 00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25" name="9 - Cooperación.wmv" descr=""/>
          <p:cNvPicPr/>
          <p:nvPr/>
        </p:nvPicPr>
        <p:blipFill>
          <a:blip r:embed="rId3"/>
          <a:stretch/>
        </p:blipFill>
        <p:spPr>
          <a:xfrm>
            <a:off x="1547640" y="9079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30" name="10 - Da una Sonrisa.wmv" descr=""/>
          <p:cNvPicPr/>
          <p:nvPr/>
        </p:nvPicPr>
        <p:blipFill>
          <a:blip r:embed="rId3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3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Requisit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ener un equipo de 2 a 6 personas capacitad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Buscar un loc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lanear, organizar, preparar bien el programa par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cer una buena promoción</a:t>
            </a:r>
            <a:r>
              <a:rPr b="1" lang="es-PE" sz="3200" spc="-1" strike="noStrike">
                <a:solidFill>
                  <a:srgbClr val="0d0d0d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do visualizado o ilustrad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articipación plena y continu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mar en cuenta la regla 1 x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Variedad, novedad, agilida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étodo directo e indirecto, cambiar apropiada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Uso de los cinco sentid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7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óngale un nombre 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8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ucha ora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9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Escoger el tema central y enfatizar cada día ese te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0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Decidir la extensión del progra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1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ga un programa Cristo céntrico y               Niño céntr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 – La Clave Secreta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 – Temar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Honradez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cortesí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servicio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Abnegación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verdad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Perdón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obedienci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- Carta de Dio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Fin de sema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Este modelo lo puede usar en coordinación con la escuela e invitar a los padres de famili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Historia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Conociendo al Autor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Carta de Dios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Music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scoja un canto y sobre el maneje el temario para la seman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Trabajo en grupos…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Prepare un temario basado en el canto que acaba de escuch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11" name="LA SEMANA.mp3" descr=""/>
          <p:cNvPicPr/>
          <p:nvPr/>
        </p:nvPicPr>
        <p:blipFill>
          <a:blip r:embed="rId3"/>
          <a:stretch/>
        </p:blipFill>
        <p:spPr>
          <a:xfrm>
            <a:off x="4859280" y="234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gozo_culto_joe.mp3" descr=""/>
          <p:cNvPicPr/>
          <p:nvPr/>
        </p:nvPicPr>
        <p:blipFill>
          <a:blip r:embed="rId4"/>
          <a:stretch/>
        </p:blipFill>
        <p:spPr>
          <a:xfrm>
            <a:off x="4859280" y="285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41015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9515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entro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oe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rquesta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Ri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Jueg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frend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odelito bíblic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nto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redican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Adivinanz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arch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 fuera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salu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limpiez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Visita a un asil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606060"/>
                </a:solidFill>
                <a:latin typeface="Arial"/>
              </a:rPr>
              <a:t>La idea es que los niños participen de cualquier actividad que tenga que ver con la testificación y para que pierdan el miedo a la gente, hacerlos mas sociabl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3:46:03Z</dcterms:created>
  <dc:creator>Melchor Ferreyra</dc:creator>
  <dc:description/>
  <dc:language>en-US</dc:language>
  <cp:lastModifiedBy>Melchor Ferreyra</cp:lastModifiedBy>
  <dcterms:modified xsi:type="dcterms:W3CDTF">2012-06-30T02:56:07Z</dcterms:modified>
  <cp:revision>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51033</vt:lpwstr>
  </property>
</Properties>
</file>